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694A8-B02C-45C5-A84B-38BC817A0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6F9D6-89B3-4C12-9B51-FB13892B3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C7B23-3D1D-475B-AB66-AA19DEFC2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5C574-664B-404D-AD19-B3C32FA18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4579F-72E5-49CA-9195-B507B049C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E1A34-94AD-4AEF-8836-7860A5D18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9AB49-687E-453A-BE2C-FFE693289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328B9-2CC0-459E-8D5D-57F5F7D21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70C92-2F03-45C6-B528-DDB5569A6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09D64-A0EC-48AB-989C-901B442FE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CF71D-2A35-4DF9-B904-6884BBF2F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7BD65-17C1-4C4E-8BE3-2710483CB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DF0C7-3F24-4D85-9860-3D43EFACB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47BA2-04BC-4812-8359-F832637BC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65D3E-C596-4C3A-B46B-B22FEA923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97CC5-3A2A-4ED7-983E-C381C9863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1A583-643F-4BFA-8C37-BB84F7A57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9CF8E-D177-4295-A9E3-8719AFBF8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23AF8-C4DC-4767-9F59-E34B069A0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B04D1-0AAD-4FA4-99EF-A2FB4B7BF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BC458-2D99-4C6B-B9B7-F574CF16C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86069-4031-4EA5-B64F-781C894E8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231B9-B9A5-4270-AC1F-091D4EF4C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FB93E-B282-4C24-B7E0-37CCFEE11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D1B3F-64CF-4F1F-961D-E4EA7321089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ECFA2-508C-42FD-9C40-97E6F9106AE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26792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dbbd71"/>
                </a:solidFill>
                <a:latin typeface="굴림"/>
              </a:rPr>
              <a:t>10</a:t>
            </a: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장 의사소통장애아 교육</a:t>
            </a:r>
            <a:r>
              <a:rPr b="0" lang="en-US" sz="5400" spc="-1" strike="noStrike">
                <a:solidFill>
                  <a:srgbClr val="dbbd71"/>
                </a:solidFill>
                <a:latin typeface="굴림"/>
              </a:rPr>
              <a:t> </a:t>
            </a:r>
            <a:endParaRPr b="0" lang="en-US" sz="5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언어의 기초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언어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호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아이디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속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체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삶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음기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 공명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두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순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준언어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어 기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미의 전달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초분절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주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음성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언어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몸짓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얼굴표정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언어의 구성요소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form)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content)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use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어휘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구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통사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화용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honology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 체계의 규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분절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morphology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독립과 종속 형태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구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syntax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어휘의 배열 규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semantic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물의 관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건 사이의 관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화용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ragmatics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의 사용 규칙과 방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의사소통 장애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발성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음 및 음운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창성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언어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보완대체 의사소통 체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Bliss Symbo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질문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692360" y="1700280"/>
            <a:ext cx="5688000" cy="44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4T20:36:39Z</dcterms:created>
  <dc:creator>.</dc:creator>
  <dc:description/>
  <dc:language>en-US</dc:language>
  <cp:lastModifiedBy>f</cp:lastModifiedBy>
  <dcterms:modified xsi:type="dcterms:W3CDTF">2007-05-17T01:21:41Z</dcterms:modified>
  <cp:revision>25</cp:revision>
  <dc:subject/>
  <dc:title>제 10장 중복장애 </dc:title>
</cp:coreProperties>
</file>